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56C-154D-4028-962E-AA51F770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D11-011F-4D1A-B1DA-8502BA45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117-30AC-4235-A861-73FC9ACF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985A-F752-4D53-B0E6-9AF256FC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2BF-E4A9-484D-83F2-D147BEFE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333-CB66-4CAB-8CCD-AAAC6B4E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116-1EA1-405F-B8BD-3F4E1045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0B9-30FB-4A99-8CDE-0A350B92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50E-BCD7-47EB-A807-9D70A1F1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B89-FE1B-4F2F-B0D0-766C3275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AE1-A7DE-448C-A43C-031E4ECE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C2C-A473-4E8C-B359-70ABCC3D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99FE-64CB-4E8C-B6DA-FB19DDA8AE8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25Z</dcterms:modified>
  <cp:revision>131</cp:revision>
  <dc:subject/>
  <dc:title>Lexical Analysis</dc:title>
</cp:coreProperties>
</file>